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19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EF24-2E11-4A04-9ABB-803805B9C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370D-B086-40DF-8FAE-BF89E238C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led to important political and military clashes…challenge for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19D2-7666-41BB-AF13-0BAEC27DF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heads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mai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:  14 years 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ized what is now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 as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death to anyone who does not cov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im the Grim did the same to Shi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in Ottoman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149A-4CC5-4712-96CF-07C3D4E77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ese artisans brought, collaboration gave rise to fabulous artwork, rebuild capital city of Isfan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pets:  local craft to nationa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0799-701F-4FFC-BB52-2E8C35765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ing family members to keep another from claim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bal armies from Afghanistan taking over E portions of Safavid realm, Ottomans from the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ir Shah Afshar: 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67FD-9C7F-4E90-B0DA-37ACEB6EB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pta collapse, Arabs invasion, Muslim tribes from Asia, rulers Raj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area Mugh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F318-F005-483D-8ACC-95CA5DC88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dson of Babur:  Ak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6B6A-9B52-42F6-B010-E6D497628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r Jahan: Persian princess with variety of inte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lliant politician who understood use of power, religious problem with 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khs:  blending of Hinduism, Buddhism and Sufism (Islamic mystic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 Jahan:  two loves, wife and architecture; when wife died, giving birth to their 1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hild, ordered building of tomb:  Taj Mah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9E62-66A0-4437-A311-41A587283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an was militaristic, used cannons, walled cities… fought against Seljuks… was a ghaz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12A-0511-44FA-9C93-204340ED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39D5-2EA7-4AF9-BF88-C3A3298B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43C-F506-4B33-BD6A-8827AF16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89D-D75A-46AE-AE3D-EF6B2433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5DCC-0A6B-4E9E-AFE3-DF3BC64F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0BEC-2EB9-42D3-812F-EB49D9B1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B7A1-1336-4401-B95F-A31FB841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23C7-0D16-4CFC-BD73-2506FE49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95C5-75CC-48C3-B04E-40E330C3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2B75-E21C-4FB2-B149-8C1769C9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D725-092F-4E91-B329-EA4B8FF3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9780-949B-4E55-B938-78200A01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769B-8990-46E5-820E-95BDB4C4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D596-E43F-45AF-A7F6-33973B7C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D911-2870-41AD-AA9B-FE298EF5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72A1-8C77-4A81-9C35-06AA25092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9A23-7F07-47CD-B450-BC33BDD4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D82-9523-4C61-847D-AC0B7E8E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61E-4533-4CD0-95CE-FE5C80C1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839-90AF-4A81-99D7-584284CF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BE8-93C8-4E83-B14C-D5BDFA2A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393A-A818-476E-B857-431F1988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5435-DCFF-407A-97A4-AAA92A08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65A-F0C3-4E53-9C13-3F038FEA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A54A-ED30-45E0-A671-E896EBD1E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78B2-D90C-4EC3-BD61-7B5FF9712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he Gunpowder Empires 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(1400-1800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madic Invasions by Mongols led to changes in the Muslim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ceylon gunpowder green tea"/>
          <p:cNvPicPr/>
          <p:nvPr/>
        </p:nvPicPr>
        <p:blipFill>
          <a:blip r:embed="rId1"/>
          <a:stretch/>
        </p:blipFill>
        <p:spPr>
          <a:xfrm>
            <a:off x="1447920" y="2819520"/>
            <a:ext cx="3195360" cy="3762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334120" y="3200400"/>
            <a:ext cx="2971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ghal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tom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fav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Leadership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– strong warrior, 14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iite Islam as state religion in Iran - no religious freed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tomans and Safavids disagree on religious tole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mai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destroys Baghdad and kills Sun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nnis kill Shiites in Ottoman Emp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le/conques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lden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7" descr="33 Bridges, Esfahan, Iran"/>
          <p:cNvPicPr/>
          <p:nvPr/>
        </p:nvPicPr>
        <p:blipFill>
          <a:blip r:embed="rId1"/>
          <a:stretch/>
        </p:blipFill>
        <p:spPr>
          <a:xfrm>
            <a:off x="6934320" y="2133720"/>
            <a:ext cx="1854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Golden Age of Shah Abbas:  1587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14440" y="1676520"/>
            <a:ext cx="48006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ltural blending w/Ottoman, Persian &amp; Arab wor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a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 w/Europe &amp; Ch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an carp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y reforms (Persian &amp; Christian armies cre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weapon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shed corruption, emphasized loya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1003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2"/>
          <a:stretch/>
        </p:blipFill>
        <p:spPr>
          <a:xfrm>
            <a:off x="990720" y="3124080"/>
            <a:ext cx="3200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ISFAHA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4771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48320" y="3805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Decl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3048120"/>
            <a:ext cx="784872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etent lea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sant dis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al armies from Afghanistan taking ove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ni family took control, but was un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avids died politically, but never culturally - left behind a strong Persian cultural leg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Safavid fortress and village, Bam, Iran"/>
          <p:cNvPicPr/>
          <p:nvPr/>
        </p:nvPicPr>
        <p:blipFill>
          <a:blip r:embed="rId1"/>
          <a:stretch/>
        </p:blipFill>
        <p:spPr>
          <a:xfrm>
            <a:off x="4952880" y="1600200"/>
            <a:ext cx="3330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MUGHAL EMPIRE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(1526-1707)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449604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ghals =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gols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lims in India since 7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hi Sulta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98: Tamerlane inv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nic &amp; religious conflic fo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6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b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nds 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334800" y="173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6" descr="Map of India"/>
          <p:cNvPicPr/>
          <p:nvPr/>
        </p:nvPicPr>
        <p:blipFill>
          <a:blip r:embed="rId1"/>
          <a:stretch/>
        </p:blipFill>
        <p:spPr>
          <a:xfrm>
            <a:off x="5486400" y="2133720"/>
            <a:ext cx="30369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Golden Age of Akbar: 1556-1605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7" descr="akbar"/>
          <p:cNvPicPr/>
          <p:nvPr/>
        </p:nvPicPr>
        <p:blipFill>
          <a:blip r:embed="rId1"/>
          <a:stretch/>
        </p:blipFill>
        <p:spPr>
          <a:xfrm>
            <a:off x="5950080" y="1371600"/>
            <a:ext cx="2736720" cy="3762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5908680" y="5365800"/>
            <a:ext cx="28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quest of 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npow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jput offi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819520" y="3705120"/>
            <a:ext cx="304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igious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eaucracy included diverse offi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ba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1066680" y="525780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ir tax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she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iz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d income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90720" y="1600200"/>
            <a:ext cx="392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ltural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atures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bar perio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ry achie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UGHAL EXPANSIO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94360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After Akba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611-1622: Jahangir &amp; Nur Ja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ss religious toler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ghals v. Sik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628-1658: Shah Jah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ted political com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aj Mah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658-1707: Aurangze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litary leader and empire buil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press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forced Islamic law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raged Hind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5484960" y="1143000"/>
            <a:ext cx="320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Decl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40880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jputs rebe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rs for conquest cost $$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loyalty to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ened central state, power of local lords gr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ed in a patchwork of independen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with Europeans - Indi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next conque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Comparative Analysi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the similarities and differences between two of the following Gunpowder Empires during the years from 1450-175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ghal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to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fav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963720" y="685800"/>
            <a:ext cx="7824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CONTEXT: </a:t>
            </a:r>
            <a:br>
              <a:rPr sz="3600"/>
            </a:br>
            <a:r>
              <a:rPr b="1" lang="en-US" sz="3600" spc="-1" strike="noStrike">
                <a:solidFill>
                  <a:srgbClr val="221304"/>
                </a:solidFill>
                <a:latin typeface="Times New Roman"/>
              </a:rPr>
              <a:t>How can we characterize this period in world history?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tween ancient &amp; early modern histo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lamic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wer shif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Arab Muslims to ethnically Turkic Musli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Use of gunpowder &amp; other new technologies fo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nquest (</a:t>
            </a:r>
            <a:r>
              <a:rPr b="1" lang="ja-JP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unpowder empires</a:t>
            </a:r>
            <a:r>
              <a:rPr b="1" lang="ja-JP" sz="3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ultural, artistic, &amp; architectural development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till impact regions conque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7720" y="3808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toman Empire at Greatest Extent c. 169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028" descr="expansionmap.gif (45254 bytes)"/>
          <p:cNvPicPr/>
          <p:nvPr/>
        </p:nvPicPr>
        <p:blipFill>
          <a:blip r:embed="rId1"/>
          <a:stretch/>
        </p:blipFill>
        <p:spPr>
          <a:xfrm>
            <a:off x="990720" y="990720"/>
            <a:ext cx="77086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OTTOMAN EMPIRE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(1281-1922)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st lasting &amp; most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1: found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sm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haz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rul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lims required to do militar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Muslims pai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iz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quered peoples generally treated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5554800" y="2133720"/>
            <a:ext cx="3003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CONQUEST OF CONSTANTINOPLE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51051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hmet II conquers Constantinople in 14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gia So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6483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221304"/>
                </a:solidFill>
                <a:latin typeface="Times New Roman"/>
              </a:rPr>
              <a:t>Golden Age of Suleiman</a:t>
            </a:r>
            <a:br>
              <a:rPr sz="3300"/>
            </a:br>
            <a:r>
              <a:rPr b="1" lang="en-US" sz="3300" spc="-1" strike="noStrike">
                <a:solidFill>
                  <a:srgbClr val="221304"/>
                </a:solidFill>
                <a:latin typeface="Times New Roman"/>
              </a:rPr>
              <a:t>1520-1566</a:t>
            </a:r>
            <a:endParaRPr b="0" lang="en-US" sz="33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505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itary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val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quest of Europe (stopped @ Vien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al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ureau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anissa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vshi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ll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09880" y="3505320"/>
            <a:ext cx="3353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ltural Achie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ia, religious tol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taxation/bureaucrac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que of Sulei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ending of Turkish artistic styles with those of conquered peo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051680" y="3429000"/>
            <a:ext cx="1711440" cy="2666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2"/>
          <a:stretch/>
        </p:blipFill>
        <p:spPr>
          <a:xfrm>
            <a:off x="5638680" y="404640"/>
            <a:ext cx="30862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Decl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5438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apable leaders fearful of los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ressive policies &amp; taxatio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easant discontent and rebe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 decline - illegal trade, 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val power defeated in Spain and Italy (Battle of Lepanto - 157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olved with the creation of the nation of Turkey in 1923, after World War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SAFAVID EMPIRE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(1501-1722)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3760" y="1828800"/>
            <a:ext cx="362268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f al-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oun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anian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ite Is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ecuted on religious grounds by Ottoman Sunni Musl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army to protect themselves on both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7" descr="Safavids"/>
          <p:cNvPicPr/>
          <p:nvPr/>
        </p:nvPicPr>
        <p:blipFill>
          <a:blip r:embed="rId1"/>
          <a:stretch/>
        </p:blipFill>
        <p:spPr>
          <a:xfrm>
            <a:off x="990720" y="2209680"/>
            <a:ext cx="436068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20:18:21Z</dcterms:created>
  <dc:creator>Julie Ann Graham</dc:creator>
  <dc:description/>
  <dc:language>en-US</dc:language>
  <cp:lastModifiedBy>Filie, Steven</cp:lastModifiedBy>
  <cp:lastPrinted>2005-11-01T19:45:21Z</cp:lastPrinted>
  <dcterms:modified xsi:type="dcterms:W3CDTF">2016-01-05T14:27:07Z</dcterms:modified>
  <cp:revision>101</cp:revision>
  <dc:subject/>
  <dc:title>The Gunpowder Empires (1400-1800)</dc:title>
</cp:coreProperties>
</file>